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A5D-9AE8-4A69-BFE1-966CCDE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F10-D7AC-46C6-8CD7-1B775C7A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D1E-7F81-458A-BC4C-9C305EF3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117-133F-4CD7-9280-74EB0B6C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5AD-C3AF-4ED1-B5FE-319C7029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FA4-4E23-403F-B12C-964D5DED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84D-B741-4D77-ABEB-68D415C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25A-05E5-46A5-9D5A-05D9F07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7C5-049B-49D8-B1BD-0A35D1C1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836-7910-4D33-B7C9-97D4CBE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8DD-67EB-49CB-95EE-0DE6C2A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CB5-2448-444D-959C-EC9FDB7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D79C-A1CF-4021-A5BF-1585A3757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475920"/>
            <a:ext cx="8713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506d8"/>
                </a:solidFill>
                <a:latin typeface="Comic Sans MS"/>
              </a:rPr>
              <a:t>IMPLICAZIONI DELLA TEORIA DI VYGOTSKY NELL’EDU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31525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li insegnanti e i genitori costruiscono delle impalcature per il bambino che includ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mostr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e fare le c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ieg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 proced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ni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del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critti o re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labor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stematicamente tutte le abilità necessarie per eseguire compiti più diffic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ulare doman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portino a talune importanti comprens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rregg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li erro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dentific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correggere i malinte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iv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 stud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ni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iet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iari e realis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ygotsky propone cinque idee applicabili all’educazio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egnamento\apprendimen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rato allo sviluppo della personalità del bam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La personalità è legata allo sviluppo della creatività che deve essere sviluppato all’interno della scuola c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eria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forniscono queste opportu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nsegnamento \ apprendimento e l’educazione richiedono un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t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e da parte degli studenti (gli studenti devono essere dei partecipanti atti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aborazi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 insegnanti e studenti (l’insegnante non deve forzare, progetto comu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Metodi più efficaci di insegnamento (non deve essere uguale per tutti, tengono conto del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’età degli 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Zona di sviluppo prossi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È la zona cognitiva entro la quale uno studente riesce a svolgere compiti che non sarebbe in  grado di svolgere da solo, con il sostegno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caffold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di un adulto o in collaborazione con un pari più ca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3041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onclusione possiamo affermare che il soggetto nel momento in cui interagisce socialmente con gli altri, attraverso  i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inguaggi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i appropria di nuovi strumenti cognitivi, che gli serviranno ad alimentare un agire linguistico interiore, il quale gli permetterà di risolvere in maniera autonoma problemi analoghi a quelli affrontati con gli al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963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7:40:37Z</dcterms:created>
  <dc:creator>utente</dc:creator>
  <dc:description/>
  <dc:language>en-US</dc:language>
  <cp:lastModifiedBy>utente</cp:lastModifiedBy>
  <dcterms:modified xsi:type="dcterms:W3CDTF">2011-01-26T08:50:49Z</dcterms:modified>
  <cp:revision>2</cp:revision>
  <dc:subject/>
  <dc:title>Diapositiva 1</dc:title>
</cp:coreProperties>
</file>